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DAA-712D-4781-9738-3FBD0944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279-92B5-48C8-9085-73433583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5BD-F60B-40B3-9CC8-C45BB572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5B98-E387-4DB9-B918-AD1F6481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CAB-9D28-4218-A5D5-71B55763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940-1C01-4652-95FB-E77A4706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38A-D976-4AFC-B170-86E034E5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AC7-A6B0-4A5E-BDBD-2FF59BA4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F03-0A1C-42B2-A0E7-90A02486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9CE-66E4-442D-9369-668EFD26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47D-CFA9-468A-9E91-2411F30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21BB-E9D8-47F8-8DDC-17D0FAE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B746-8F5A-4CE6-8873-D293BC210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hamptongrade8math.wikispaces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Writing Algebraic Expressions to Solve Word Problem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3962520"/>
            <a:ext cx="8400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w many minutes in 1 hour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14 hours, in "n" hours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You KNEW it was com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99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sing the facts, write a formula for each and solv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in 3 wee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ours in 4 day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m in 1500 met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onths in 13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weeks in 7 yea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years in 3250 weeks? (car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years in 250 months? (car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inutes in 4 hour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ours in 17 d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kilometres in 4509 metres? (carefu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lide Show can be found at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February Homewor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 our Math Web Site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hamptongrade8math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gebra is used every day to solve everyday probl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have a job and you get paid $8.25 an 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ant to figure out how much pay you will receive if you worked 16 hou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4300560"/>
            <a:ext cx="28954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can write in words, I get paid $8.25 for every hour I work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lgebraically, you would writ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$8.25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ich means 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8.25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TIM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the number of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our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you worked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 should always write the formula FIRST for every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, you would 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8.25h = p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, substitute the number of hours into the formu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8.25(16) = p  (pay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the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ay 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$13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your answer as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 = $132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w it’s your tu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formula, calculate your pay if you wor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.5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2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 h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600200"/>
            <a:ext cx="4114800" cy="4721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ry question must start with the formula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$8.25h = p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n substitute into the formula the hours that you work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member the answer is MONEY and should be in that form!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he same question with a twi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got paid $189.75, how many hours did you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paid $8.25 an hou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ivide the pay by your rate of pay, ($8.25) to get the number of hours you work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ally, it would look like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724280" y="2514600"/>
                <a:ext cx="40388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18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num>
                      <m:den>
                        <m:r>
                          <m:t xml:space="preserve">$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4577400" y="4952880"/>
            <a:ext cx="40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and you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orked, 23 hou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me problems require that you know basic fa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seconds in a minu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inutes in an h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hours in a da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in a wee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days in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weeks in a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onths in a yea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entimetres in a me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metres in a kilome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ays in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re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Since you know that there are 7 days in a week, you can wr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ays X the number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eeks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he number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ys in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 Algebraic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Substitute into the formula what you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alculat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 = 21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re are 21 days in three week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hours in four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24 hours in on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4d = hours in 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4 (4) = 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 = 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re are 96 hours in 4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13:17:16Z</dcterms:created>
  <dc:creator>admin</dc:creator>
  <dc:description/>
  <dc:language>en-US</dc:language>
  <cp:lastModifiedBy>admin</cp:lastModifiedBy>
  <dcterms:modified xsi:type="dcterms:W3CDTF">2008-02-10T14:56:38Z</dcterms:modified>
  <cp:revision>9</cp:revision>
  <dc:subject/>
  <dc:title>Writing Algebraic Expressions to Solve Word Problems.</dc:title>
</cp:coreProperties>
</file>